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FC4-5EA1-43E9-9929-C3B3D9C0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966-2609-4FCB-8380-F89D7942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C20-B418-42D5-BF66-A2B70BB3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277-979C-4F14-BD24-08A2DEDC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4BE94-EAA4-4800-890D-269F1250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D083A-A0BD-4FE8-9A17-7A3BC429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D8B18-8BB5-4B23-9616-42C316C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A2DC3-D049-4B78-86C5-348C4CF2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8E58F-891C-4D05-A6DF-C2334008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E9368-CAA5-4520-BEB3-2975A3D8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2A255-BDFB-43CF-BB88-8A57342F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FF6-D686-4D6B-8246-86D07FF8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AD49D-BB09-43A5-9E12-C7A59C44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357DA-496A-4EFD-82C2-14989D21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C2EFE-B2F3-4CDF-9086-705AAFBE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2FC9E-BC18-4284-BDFB-1A589A45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82381-8D11-42BE-949F-600CC290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F74-0F8B-4B19-A633-C452B754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483-03E2-4C50-946D-474BEA82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06B-C8F8-450B-B785-2A5FE6E4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99D-CB12-4B72-A522-B9804B2D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0B0-001F-416A-AB75-9929B986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972-6BB6-4E6A-A8E6-D2316AB7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850-6B60-4B59-87B2-C5E9EFED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AD37-DD29-4491-BB6C-32A36CB9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8CC7-595E-4A80-8B1A-317D9E85AD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rijuana Pan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04920" y="6278400"/>
            <a:ext cx="259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04920" y="2057400"/>
            <a:ext cx="883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ANELIS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school age teen ex-user (DANNY/DANIEL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yfriend/Girlfriend of current marijuana user (JAMES/CHERY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 of teenager current marijuana user (AMANDA/JOH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ientist (YOLANDA/STE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8:12Z</dcterms:modified>
  <cp:revision>18</cp:revision>
  <dc:subject/>
  <dc:title>Project TND  (Project Towards No Drug Abuse)</dc:title>
</cp:coreProperties>
</file>